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F2B-0346-43B0-BEB9-2F94B68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06E-51F0-477C-A1D5-F30DBA8B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925-F745-47C2-B06B-669D4195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C7C-D152-4984-B0F2-746DA32A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21F-872A-408D-B0C1-ED547B14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E4E8-CF63-442E-925F-9CC0C8D1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7168-2C72-44D6-97BC-A24D01CE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68E0-7DA8-4DCA-8465-92C020C8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267A-93F3-41FD-811E-01603D76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A74-AA30-4BBD-848F-FB8CAC6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B27F-4E8C-4F0E-86F3-99B432A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A4C-9AAA-4CA0-B3AD-763DE14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285-9CAA-46CE-8810-AC89468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3B47-800D-4872-BAAF-CC6E8C8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C35C-E8BE-4D4E-9AE5-D221DC6D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874C-A92C-42FF-87F5-B9A1489A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8D78-74F4-4CB6-B674-CE92B74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181-B4A2-4913-B6FE-E0C0055C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C0B-FA34-44F9-B257-5232C102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C55-7917-44A4-B39A-A1CD7892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A28-DDB2-456C-B323-D7796B2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ACE-61A8-4DDB-8B09-A2944E44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356-0390-4ADD-BA62-28DA543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D51-A806-4700-8400-00B513F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9278-9A0A-4681-829A-673B519FF4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089-2433-4E96-95FE-CFF2018B8F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создания. Принцип работы. КП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50920" y="1341360"/>
            <a:ext cx="8675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d1ec"/>
                  </a:solidFill>
                  <a:miter/>
                </a:ln>
                <a:gradFill rotWithShape="0">
                  <a:gsLst>
                    <a:gs pos="0">
                      <a:srgbClr val="65ed75"/>
                    </a:gs>
                    <a:gs pos="50000">
                      <a:srgbClr val="f3abd4"/>
                    </a:gs>
                    <a:gs pos="100000">
                      <a:srgbClr val="65ed75"/>
                    </a:gs>
                  </a:gsLst>
                  <a:lin ang="0"/>
                </a:gradFill>
                <a:latin typeface="GothicG"/>
              </a:rPr>
              <a:t>Двигатели внутреннего сгорания</a:t>
            </a:r>
            <a:endParaRPr b="0" lang="en-US" sz="1800" spc="1" strike="noStrike">
              <a:ln w="9360">
                <a:solidFill>
                  <a:srgbClr val="86d1ec"/>
                </a:solidFill>
                <a:miter/>
              </a:ln>
              <a:gradFill rotWithShape="0">
                <a:gsLst>
                  <a:gs pos="0">
                    <a:srgbClr val="65ed75"/>
                  </a:gs>
                  <a:gs pos="50000">
                    <a:srgbClr val="f3abd4"/>
                  </a:gs>
                  <a:gs pos="100000">
                    <a:srgbClr val="65ed75"/>
                  </a:gs>
                </a:gsLst>
                <a:lin ang="0"/>
              </a:gradFill>
              <a:latin typeface="GothicG"/>
              <a:ea typeface="GothicG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1116000" y="189000"/>
            <a:ext cx="698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сновные компоненты двига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9423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Строение яркого представителя ДВС – карбюраторного двиг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6" descr="BD18212_"/>
          <p:cNvPicPr/>
          <p:nvPr/>
        </p:nvPicPr>
        <p:blipFill>
          <a:blip r:embed="rId3"/>
          <a:stretch/>
        </p:blipFill>
        <p:spPr>
          <a:xfrm>
            <a:off x="4859280" y="1773360"/>
            <a:ext cx="4284720" cy="3944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6438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зажиг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источник тока – генератор и аккумулятор, прерыватель + конденса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пус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электрический стартер, источник тока – аккумулятор, элементы дистанционного 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впуска и выпус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трубопроводы, воздушный фильтр, глушит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539640" y="170028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539640" y="263700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539640" y="3500280"/>
            <a:ext cx="289080" cy="28764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6" descr="karburtor"/>
          <p:cNvPicPr/>
          <p:nvPr/>
        </p:nvPicPr>
        <p:blipFill>
          <a:blip r:embed="rId4"/>
          <a:stretch/>
        </p:blipFill>
        <p:spPr>
          <a:xfrm>
            <a:off x="900000" y="4292640"/>
            <a:ext cx="2808360" cy="1900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7"/>
          <p:cNvSpPr/>
          <p:nvPr/>
        </p:nvSpPr>
        <p:spPr>
          <a:xfrm>
            <a:off x="826920" y="6237360"/>
            <a:ext cx="2927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бюратор двиг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150"/>
                            </p:stCondLst>
                            <p:childTnLst>
                              <p:par>
                                <p:cTn id="63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3450"/>
                            </p:stCondLst>
                            <p:childTnLst>
                              <p:par>
                                <p:cTn id="66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695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00360" y="1700280"/>
            <a:ext cx="4321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ымленность воздуха в крупных населенных пунктах, оказывает пагубное влияние на окружающую среду, мешает людям нормально жить, так как вредные вещества, которые содержаться в выхлопных газах двигателей, представляют серьезную опасность для здоровья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AVTOTR_120"/>
          <p:cNvPicPr/>
          <p:nvPr/>
        </p:nvPicPr>
        <p:blipFill>
          <a:blip r:embed="rId1"/>
          <a:stretch/>
        </p:blipFill>
        <p:spPr>
          <a:xfrm>
            <a:off x="684360" y="2205000"/>
            <a:ext cx="4011480" cy="3030480"/>
          </a:xfrm>
          <a:prstGeom prst="rect">
            <a:avLst/>
          </a:prstGeom>
          <a:ln w="0">
            <a:noFill/>
          </a:ln>
        </p:spPr>
      </p:pic>
      <p:sp>
        <p:nvSpPr>
          <p:cNvPr id="278" name="WordArt 7"/>
          <p:cNvSpPr txBox="1"/>
          <p:nvPr/>
        </p:nvSpPr>
        <p:spPr>
          <a:xfrm>
            <a:off x="1258920" y="189000"/>
            <a:ext cx="669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храна окружающей сре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3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8" descr="17"/>
          <p:cNvPicPr/>
          <p:nvPr/>
        </p:nvPicPr>
        <p:blipFill>
          <a:blip r:embed="rId1"/>
          <a:stretch/>
        </p:blipFill>
        <p:spPr>
          <a:xfrm>
            <a:off x="468360" y="3645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4"/>
          <p:cNvPicPr/>
          <p:nvPr/>
        </p:nvPicPr>
        <p:blipFill>
          <a:blip r:embed="rId2"/>
          <a:stretch/>
        </p:blipFill>
        <p:spPr>
          <a:xfrm>
            <a:off x="5292720" y="1628640"/>
            <a:ext cx="3384720" cy="2232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5194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вигателя внутреннего сгорания оказало большое влияние на развитие многих отраслей промышленности, сельского хозяйства и науки. И пускай проходит эра двигателя внутреннего сгорания, пусть у  них  есть много  недостат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1258920" y="189000"/>
            <a:ext cx="669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6760" y="3645000"/>
            <a:ext cx="56372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 появляются  новые  двигатели,  не   загрязняющие внутреннюю среду и не использующие функцию теплового расширения,  но  первые еще долго будут приносить пользу людям, и люди через многие сотни лет  будут по доброму отзываться о них, ибо они вывели человечество  на  новый  уровень развития, а, пройдя его, человечество поднялось еще вы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896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, несмотря ни на что, автомобили на ДВС завоевали мир. Они являются объектом поклонения многих миллионов мужчин и даже  женщи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7" descr="0e13"/>
          <p:cNvPicPr/>
          <p:nvPr/>
        </p:nvPicPr>
        <p:blipFill>
          <a:blip r:embed="rId1"/>
          <a:stretch/>
        </p:blipFill>
        <p:spPr>
          <a:xfrm>
            <a:off x="1403280" y="2637000"/>
            <a:ext cx="5473800" cy="3922560"/>
          </a:xfrm>
          <a:prstGeom prst="rect">
            <a:avLst/>
          </a:prstGeom>
          <a:ln w="0">
            <a:noFill/>
          </a:ln>
        </p:spPr>
      </p:pic>
      <p:sp>
        <p:nvSpPr>
          <p:cNvPr id="286" name="WordArt 8"/>
          <p:cNvSpPr txBox="1"/>
          <p:nvPr/>
        </p:nvSpPr>
        <p:spPr>
          <a:xfrm>
            <a:off x="1258920" y="189000"/>
            <a:ext cx="669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400"/>
                            </p:stCondLst>
                            <p:childTnLst>
                              <p:par>
                                <p:cTn id="7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Benz"/>
          <p:cNvPicPr/>
          <p:nvPr/>
        </p:nvPicPr>
        <p:blipFill>
          <a:blip r:embed="rId1"/>
          <a:stretch/>
        </p:blipFill>
        <p:spPr>
          <a:xfrm>
            <a:off x="468360" y="1557360"/>
            <a:ext cx="1781280" cy="2303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2916360" y="162864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860 г. Этьен Ленуар изобрел первый двигатель, работавший на светильном газ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11280" y="386064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ьен Ленуа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1822-19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476360" y="1125360"/>
            <a:ext cx="395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9900"/>
                </a:solidFill>
                <a:latin typeface="Arial"/>
              </a:rPr>
              <a:t>Этапы развития ДВ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стория соз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2557440" y="1755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2916360" y="2475000"/>
            <a:ext cx="40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862 г. Альфонс Бо Де Роша предложил идею четырехтактного двигателя. Однако свою идею осуществить он не сум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2557440" y="26020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2916360" y="3500280"/>
            <a:ext cx="40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876 г. Николаус Август Отто создает четырехтактный двигатель по Рош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557440" y="3627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2916360" y="4075200"/>
            <a:ext cx="40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883 г. Даймлер предложил конструкцию двигателя, который мог работать как на газе, так и на бенз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2557440" y="4202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2916360" y="5805360"/>
            <a:ext cx="4032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1920 г. ДВС становятся лидирующими. экипажи на паровой и электрической тяге стали большой редк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2557440" y="59324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4" descr=""/>
          <p:cNvPicPr/>
          <p:nvPr/>
        </p:nvPicPr>
        <p:blipFill>
          <a:blip r:embed="rId4"/>
          <a:stretch/>
        </p:blipFill>
        <p:spPr>
          <a:xfrm>
            <a:off x="7020000" y="1413000"/>
            <a:ext cx="192240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7"/>
          <p:cNvSpPr/>
          <p:nvPr/>
        </p:nvSpPr>
        <p:spPr>
          <a:xfrm>
            <a:off x="2916360" y="5011560"/>
            <a:ext cx="40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рл Бенц изобрел самоходную трехколесную коляску на основе технологий Даймл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2557440" y="5138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9" descr="карл бенц"/>
          <p:cNvPicPr/>
          <p:nvPr/>
        </p:nvPicPr>
        <p:blipFill>
          <a:blip r:embed="rId5"/>
          <a:stretch/>
        </p:blipFill>
        <p:spPr>
          <a:xfrm>
            <a:off x="7020000" y="4437000"/>
            <a:ext cx="1728720" cy="1695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0"/>
          <p:cNvSpPr/>
          <p:nvPr/>
        </p:nvSpPr>
        <p:spPr>
          <a:xfrm>
            <a:off x="7164360" y="371628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вгуст От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1832-189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1" descr="даймлер"/>
          <p:cNvPicPr/>
          <p:nvPr/>
        </p:nvPicPr>
        <p:blipFill>
          <a:blip r:embed="rId6"/>
          <a:stretch/>
        </p:blipFill>
        <p:spPr>
          <a:xfrm>
            <a:off x="539640" y="458136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755640" y="623736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аймл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7308720" y="6165720"/>
            <a:ext cx="1366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л Бен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5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5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5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5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63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63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43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91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91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31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31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19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19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402920" y="5805360"/>
            <a:ext cx="7056360" cy="4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Трехколесная коляска, изобретенная Карлом Бенц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я соз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8" name="Picture 5" descr="Benz"/>
          <p:cNvPicPr/>
          <p:nvPr/>
        </p:nvPicPr>
        <p:blipFill>
          <a:blip r:embed="rId3"/>
          <a:stretch/>
        </p:blipFill>
        <p:spPr>
          <a:xfrm>
            <a:off x="1763640" y="1413000"/>
            <a:ext cx="59054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5802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ий цикл четырехтактного карбюраторного двигателя внутреннего сгорания  совершается за 4 хода поршня (такта), т. е. за 2 оборота коленчатого в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WordArt 8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цип 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2195640" y="1125360"/>
            <a:ext cx="4105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bd89"/>
                </a:solidFill>
                <a:latin typeface="Arial"/>
              </a:rPr>
              <a:t>Четырехтактный двиг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6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4392720" cy="2949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7"/>
          <p:cNvSpPr/>
          <p:nvPr/>
        </p:nvSpPr>
        <p:spPr>
          <a:xfrm>
            <a:off x="4740120" y="3357720"/>
            <a:ext cx="4403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ff"/>
                </a:solidFill>
                <a:latin typeface="Arial"/>
              </a:rPr>
              <a:t>1 так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ccff99"/>
                </a:solidFill>
                <a:latin typeface="Arial"/>
              </a:rPr>
              <a:t>впу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горючая смесь из карбюратора поступает в цилинд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788000" y="2852640"/>
            <a:ext cx="21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Различают 4 так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4740120" y="3933720"/>
            <a:ext cx="440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ff"/>
                </a:solidFill>
                <a:latin typeface="Arial"/>
              </a:rPr>
              <a:t>2 так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ccff99"/>
                </a:solidFill>
                <a:latin typeface="Arial"/>
              </a:rPr>
              <a:t>сжат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клапаны закрыты и смесь сжимается, в конце сжатия смесь воспламеняется электрической искрой и происходит сгорание топли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740120" y="5013360"/>
            <a:ext cx="4403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ff"/>
                </a:solidFill>
                <a:latin typeface="Arial"/>
              </a:rPr>
              <a:t>3 так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ccff99"/>
                </a:solidFill>
                <a:latin typeface="Arial"/>
              </a:rPr>
              <a:t>рабочий хо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происходит преобразование тепла, полученного от сгорания топлива, в механическую работу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4740120" y="5805360"/>
            <a:ext cx="4403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ff"/>
                </a:solidFill>
                <a:latin typeface="Arial"/>
              </a:rPr>
              <a:t>4 так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ccff99"/>
                </a:solidFill>
                <a:latin typeface="Arial"/>
              </a:rPr>
              <a:t>выпус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отработавшие газы вытесняются поршне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5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275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25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875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35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225"/>
                            </p:stCondLst>
                            <p:childTnLst>
                              <p:par>
                                <p:cTn id="2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6"/>
          <p:cNvSpPr/>
          <p:nvPr/>
        </p:nvSpPr>
        <p:spPr>
          <a:xfrm>
            <a:off x="5148360" y="3429000"/>
            <a:ext cx="2087640" cy="93672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>
            <a:off x="1116000" y="3429000"/>
            <a:ext cx="2087640" cy="100800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000" y="5229000"/>
            <a:ext cx="7786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рактике мощность двухтактного карбюраторного двигателя внутреннего сгорания часто не только не превышает мощность четырёхтактного, но оказывается даже ниже. Это обусловлено тем, что значительная часть хода (20-35%) поршень совершает при открытых клапа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цип 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340000" y="112536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bd89"/>
                </a:solidFill>
                <a:latin typeface="Arial"/>
              </a:rPr>
              <a:t>Двухтактный двиг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468360" y="1773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также двухтактный двигатель внутреннего сгорания. Рабочий цикл двухтактного карбюраторного двигателя внутреннего сгорания осуществляется за два хода поршня или за один оборот коленчатого вала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258920" y="350028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45c984"/>
                </a:solidFill>
                <a:latin typeface="Arial"/>
              </a:rPr>
              <a:t>Сжа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5435640" y="350028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c984"/>
                </a:solidFill>
                <a:latin typeface="Arial"/>
              </a:rPr>
              <a:t>Сго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3419640" y="3500280"/>
            <a:ext cx="1584000" cy="486000"/>
          </a:xfrm>
          <a:prstGeom prst="rightArrow">
            <a:avLst>
              <a:gd name="adj1" fmla="val 50000"/>
              <a:gd name="adj2" fmla="val 8148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796000" y="4005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у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615456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1835280" y="4076640"/>
            <a:ext cx="64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пу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V="1">
            <a:off x="2122560" y="38602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6156360" y="4508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 flipH="1">
            <a:off x="572436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5148000" y="47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>
            <a:off x="4571640" y="47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H="1">
            <a:off x="399564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>
            <a:off x="3419280" y="47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 flipH="1">
            <a:off x="2842920" y="479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 flipH="1">
            <a:off x="2268360" y="47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 flipV="1">
            <a:off x="2268360" y="45082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1619280" y="299556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99"/>
                </a:solidFill>
                <a:latin typeface="Arial"/>
              </a:rPr>
              <a:t>1 т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5724360" y="299556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99"/>
                </a:solidFill>
                <a:latin typeface="Arial"/>
              </a:rPr>
              <a:t>2 т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475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45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45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45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5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45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245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95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45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95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45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95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45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5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45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6950"/>
                            </p:stCondLst>
                            <p:childTnLst>
                              <p:par>
                                <p:cTn id="3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684360" y="2852640"/>
            <a:ext cx="80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Способы увеличения мощности двигател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WordArt 16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ПД двига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84360" y="1268280"/>
            <a:ext cx="792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ПД двигателя внутреннего сгорания мал и примерно составляет 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25% – 40%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Максимальный эффективный КПД наиболее совершенных ДВС около </a:t>
            </a:r>
            <a:r>
              <a:rPr b="0" lang="ru-RU" sz="2000" spc="-1" strike="noStrike">
                <a:solidFill>
                  <a:srgbClr val="66ffff"/>
                </a:solidFill>
                <a:latin typeface="Arial"/>
              </a:rPr>
              <a:t>44%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этому многие ученые пытаются увеличить КПД, а также и при этом саму мощность двиг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1403280" y="3573360"/>
            <a:ext cx="6265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ногоцилиндровых двиг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9"/>
          <p:cNvSpPr/>
          <p:nvPr/>
        </p:nvSpPr>
        <p:spPr>
          <a:xfrm>
            <a:off x="971640" y="357336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1403280" y="40053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специального топлива (правильного соотношения смеси и рода смес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1"/>
          <p:cNvSpPr/>
          <p:nvPr/>
        </p:nvSpPr>
        <p:spPr>
          <a:xfrm>
            <a:off x="971640" y="400536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1403280" y="4654440"/>
            <a:ext cx="62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мена частей двигателя (правильных размеров составных частей, зависящие от рода двигател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971640" y="465444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1403280" y="5516640"/>
            <a:ext cx="62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ранение части потерь теплоты перенесением места сжигания топлива и нагревания рабочего тела внутрь цилинд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971640" y="5516640"/>
            <a:ext cx="28872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650"/>
                            </p:stCondLst>
                            <p:childTnLst>
                              <p:par>
                                <p:cTn id="359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350"/>
                            </p:stCondLst>
                            <p:childTnLst>
                              <p:par>
                                <p:cTn id="3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750"/>
                            </p:stCondLst>
                            <p:childTnLst>
                              <p:par>
                                <p:cTn id="3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75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25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3276720" y="3284640"/>
            <a:ext cx="1582560" cy="93492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й из важнейших характеристик двигателя является его степень сжатия, которая определяется следующе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843280" y="1197000"/>
            <a:ext cx="33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Степень сжа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ПД двига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276720" y="350028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4067280" y="3284640"/>
            <a:ext cx="50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4067280" y="37879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3924360" y="3716280"/>
            <a:ext cx="792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708360" y="3645000"/>
            <a:ext cx="14436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>
            <a:off x="3708360" y="3716280"/>
            <a:ext cx="14436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250920" y="479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V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V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объемы в начале и в конце сжатия. С увеличением степени сжатия возрастает начальная температура горючей смеси в конце такта сжатия , что способствует более полному ее сгор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650"/>
                            </p:stCondLst>
                            <p:childTnLst>
                              <p:par>
                                <p:cTn id="4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650"/>
                            </p:stCondLst>
                            <p:childTnLst>
                              <p:par>
                                <p:cTn id="4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8"/>
          <p:cNvSpPr txBox="1"/>
          <p:nvPr/>
        </p:nvSpPr>
        <p:spPr>
          <a:xfrm>
            <a:off x="169236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зновидности ДВ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179280" y="3500280"/>
            <a:ext cx="295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Arial"/>
              </a:rPr>
              <a:t>жидкос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1620360" y="2492280"/>
            <a:ext cx="2808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572000" y="2492280"/>
            <a:ext cx="266544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 flipH="1">
            <a:off x="5651280" y="4075200"/>
            <a:ext cx="15858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7451640" y="40752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6443640" y="357192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Arial"/>
              </a:rPr>
              <a:t>газ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3851280" y="4940280"/>
            <a:ext cx="23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искровым зажигани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6589800" y="4941720"/>
            <a:ext cx="2554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з  искрового зажиг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дизельны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755640" y="4005360"/>
            <a:ext cx="23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карбюраторны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21"/>
          <p:cNvSpPr txBox="1"/>
          <p:nvPr/>
        </p:nvSpPr>
        <p:spPr>
          <a:xfrm>
            <a:off x="1116000" y="1844640"/>
            <a:ext cx="692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99ccff">
                    <a:alpha val="27000"/>
                  </a:srgbClr>
                </a:solidFill>
                <a:latin typeface="Impact"/>
              </a:rPr>
              <a:t>Двигатели Внутренненго Сгорания</a:t>
            </a:r>
            <a:endParaRPr b="0" lang="en-US" sz="1800" spc="1" strike="noStrike">
              <a:ln w="9360">
                <a:solidFill>
                  <a:srgbClr val="ccff99"/>
                </a:solidFill>
                <a:miter/>
              </a:ln>
              <a:solidFill>
                <a:srgbClr val="99ccff">
                  <a:alpha val="27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500"/>
                            </p:stCondLst>
                            <p:childTnLst>
                              <p:par>
                                <p:cTn id="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9"/>
          <p:cNvSpPr txBox="1"/>
          <p:nvPr/>
        </p:nvSpPr>
        <p:spPr>
          <a:xfrm>
            <a:off x="1116000" y="189000"/>
            <a:ext cx="698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сновные компоненты двига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9423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Строение яркого представителя ДВС – карбюраторного двиг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1" descr="BD18212_"/>
          <p:cNvPicPr/>
          <p:nvPr/>
        </p:nvPicPr>
        <p:blipFill>
          <a:blip r:embed="rId3"/>
          <a:stretch/>
        </p:blipFill>
        <p:spPr>
          <a:xfrm>
            <a:off x="4859280" y="1773360"/>
            <a:ext cx="4284720" cy="3944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2"/>
          <p:cNvSpPr/>
          <p:nvPr/>
        </p:nvSpPr>
        <p:spPr>
          <a:xfrm>
            <a:off x="1042920" y="1628640"/>
            <a:ext cx="7942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стов двигател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блок-картер, головки цилиндров, крышки подшипников коленчатого вала, масляный подд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ханизм движ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оршни, шатуны, коленчатый вал, махов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ханизм газораспреде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улачковый вал, толкатели, штанги, коромыс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смазк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масло, фильтр грубой отчистки, подд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99"/>
                </a:solidFill>
                <a:latin typeface="Arial"/>
              </a:rPr>
              <a:t>жидкост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радиатор, жидкость,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охлажд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99"/>
                </a:solidFill>
                <a:latin typeface="Arial"/>
              </a:rPr>
              <a:t>воздуш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бдув потоками возду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истема пит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топливный бак, топливный фильтр, карбюратор, насос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539640" y="170028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539640" y="249228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539640" y="306864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39640" y="39337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539640" y="4581360"/>
            <a:ext cx="289080" cy="28764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539640" y="551664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5c98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V="1">
            <a:off x="3780000" y="4436640"/>
            <a:ext cx="936360" cy="289080"/>
          </a:xfrm>
          <a:prstGeom prst="line">
            <a:avLst/>
          </a:prstGeom>
          <a:ln w="936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3780000" y="4797360"/>
            <a:ext cx="936360" cy="287280"/>
          </a:xfrm>
          <a:prstGeom prst="line">
            <a:avLst/>
          </a:prstGeom>
          <a:ln w="936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15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4750"/>
                            </p:stCondLst>
                            <p:childTnLst>
                              <p:par>
                                <p:cTn id="5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250"/>
                            </p:stCondLst>
                            <p:childTnLst>
                              <p:par>
                                <p:cTn id="6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625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46Z</dcterms:created>
  <dc:creator>Коля Ермолаев</dc:creator>
  <dc:description/>
  <dc:language>en-US</dc:language>
  <cp:lastModifiedBy>Игорешка</cp:lastModifiedBy>
  <dcterms:modified xsi:type="dcterms:W3CDTF">2014-12-08T15:30:16Z</dcterms:modified>
  <cp:revision>44</cp:revision>
  <dc:subject/>
  <dc:title>Двигатели внутреннего сгор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